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6DC-CFF0-4129-B838-B016509D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85E-4C79-47A7-B6E6-C6793EAD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A99-5865-4A71-8738-886A3BD1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22A-634D-46CF-B23C-18A22BDA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AD07-EA97-4071-B862-92D76305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C90-B7AF-4804-82AD-918CADE0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082-9403-41F1-B588-2EC6F1B5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063-E75E-47FB-83AB-23964FE7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996-DAF4-4460-8DF9-C07E8309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F10-C705-4206-A713-FEB6DC10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585-A77C-44F8-8865-1030AB33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4A7-0918-4236-9C71-B6093DB8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36AD-BE60-4FAE-A974-1D72B859B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            Clase 7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8 de septiembre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72224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5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repasamos para la Prueba: Repaso A el JUE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L.O.: to review the gender noun agreement and the verb SER for the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as many Spanish words as you can think of associated wit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320" y="15192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oose the correct compl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________ muy se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é que nacionalidad _______ el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_______ amigos, ¿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 una buena ami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________ tú un buen estudi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392120" y="1655640"/>
            <a:ext cx="54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397520" y="2697120"/>
            <a:ext cx="46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447920" y="3886200"/>
            <a:ext cx="54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e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7920" y="4906800"/>
            <a:ext cx="50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473480" y="6095880"/>
            <a:ext cx="46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e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II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swer in full Spanish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 ¿De dónde e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¿De qué nacionalidad e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 ¿Dónde eres alumn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¿Es grande o pequeña tu escue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6. ¿Cómo es la clase de españ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7. ¿Son ustedes buenos o malos alumn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2280" y="380520"/>
            <a:ext cx="88394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70c0"/>
                </a:solidFill>
                <a:latin typeface="Arial"/>
              </a:rPr>
              <a:t>III-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Copy complete with the correct form of 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sa, tú _________ de Florida, ¿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, yo _______ de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ernando ______ de Florida tambié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, él _______ de Tam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_______ alumnos en la misma escu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tedes __________ alumnos de español, ¿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tent Placeholder 3"/>
          <p:cNvSpPr/>
          <p:nvPr/>
        </p:nvSpPr>
        <p:spPr>
          <a:xfrm>
            <a:off x="304920" y="1798560"/>
            <a:ext cx="8534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CONVERSACION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 la tienda de 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OR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IZ REPASO A on THURS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: 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ula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ate Article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, la, los,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5:11:16Z</dcterms:created>
  <dc:creator>Helen Zumaeta</dc:creator>
  <dc:description/>
  <dc:language>en-US</dc:language>
  <cp:lastModifiedBy>Helen Zumaeta</cp:lastModifiedBy>
  <cp:lastPrinted>2015-09-28T13:17:08Z</cp:lastPrinted>
  <dcterms:modified xsi:type="dcterms:W3CDTF">2015-09-28T19:30:27Z</dcterms:modified>
  <cp:revision>23</cp:revision>
  <dc:subject/>
  <dc:title>Me llamo __________ Clase 6 nh/im La fecha es el 5 de enero del 2011</dc:title>
</cp:coreProperties>
</file>